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997700" cy="9274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98400" cy="9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0200" y="4403520"/>
            <a:ext cx="559728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636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C7F9184-0744-47B4-8A69-FE20D5B09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0200" y="4403520"/>
            <a:ext cx="559728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e working group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F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Case(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00200" y="4403520"/>
            <a:ext cx="559728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needs finalizing - confirmed specific times,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9636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72C4B65-BD49-42D3-A98D-F70829CB6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33480" y="4404960"/>
            <a:ext cx="51307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00200" y="4403520"/>
            <a:ext cx="559728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 Case Management and Federal Health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9636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72C5688-C4CB-4555-9FE9-B1CDDA421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3480" y="4404960"/>
            <a:ext cx="513072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E8BE-727A-4C5C-9B23-2AD4F7B13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736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1BD7-1BC7-45DF-9574-504368F4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44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736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44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B542-2C49-4045-A5A5-53AC7014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98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22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736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98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22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8C98-3597-4F3D-919B-A95F9CBB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79D2-7193-47BC-AF43-A2E870FE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736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1E1F-EC0E-4BA8-A793-0A86F247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2E4C1-E781-4E73-B9A6-B11D088C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44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09D8-6EC6-4944-B6A3-FE6C9000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6B7E-4039-402E-A409-72C59769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78B64-BB35-4169-81EA-E2C70088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44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736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6303-5D2F-4195-9BDD-75DBE7AA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736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B7E9-7335-490F-B9EB-CD372F14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044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044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A55E-BB2F-4819-AC8F-0090FC85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044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736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E77E-6077-452B-A4DD-B9FB32B8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736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0A60-BB80-4A6D-A3CA-27D6B985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44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736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044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9708-C352-41A7-B904-B42CC3AD3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698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522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736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698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522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7AA8-40CA-4540-92E9-C38AF41D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3C04-EDDC-459F-995E-9E04B885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44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509C-449E-495C-8422-0AAF1B7F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6903-30FD-4C1E-9B45-20D2E050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8C87-5FFD-4667-8E78-255CBF757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44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736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EBF9-828D-4E53-A527-8F7B3905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44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44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5A4B-698B-4121-A160-0E06B96D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736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44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736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1803-8A46-42DD-9856-6F171A60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36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AA755-FD68-427A-92ED-2D07E3D0F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 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8888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33520" y="11430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85680" cy="985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6E0D-4DB4-4590-9B6B-F8EBA1182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 "/>
          <p:cNvPicPr/>
          <p:nvPr/>
        </p:nvPicPr>
        <p:blipFill>
          <a:blip r:embed="rId2"/>
          <a:stretch/>
        </p:blipFill>
        <p:spPr>
          <a:xfrm>
            <a:off x="3540240" y="5257800"/>
            <a:ext cx="2057400" cy="1044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506760" y="512640"/>
            <a:ext cx="2236680" cy="2237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gov.gov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079640" y="3086280"/>
            <a:ext cx="7175520" cy="20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Security (I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 of Business (Lo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ck-Off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Slides will be posted on </a:t>
            </a:r>
            <a:r>
              <a:rPr b="1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gov.gov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ch 23, 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4971-43E8-468B-9041-81D0A8B5D1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est for Information (RF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68360" y="1560600"/>
          <a:ext cx="8240760" cy="4535280"/>
        </p:xfrm>
        <a:graphic>
          <a:graphicData uri="http://schemas.openxmlformats.org/drawingml/2006/table">
            <a:tbl>
              <a:tblPr/>
              <a:tblGrid>
                <a:gridCol w="1503360"/>
                <a:gridCol w="6737400"/>
              </a:tblGrid>
              <a:tr h="414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for Information (RF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660033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performance requirements for ITS LoB will 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tted to industry, government, and non-profit for feedb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660033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I will include overarching, strategic questions fundamen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all LoB initiatives as well as ITS LoB-specific ques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660033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Force Management will provide RFI purpose, guideline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proc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660033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Force will develop RFI and review/analyze respon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660033"/>
                        </a:buClr>
                        <a:buSzPct val="80000"/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endent on vision, goals, and ob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D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4/05 -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mit to industry, government, and non-profi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5/0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Receive responses from industry, government, an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profit organiz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F98C-78DF-427D-8A15-8F9164B9F1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on Solution(s) and Concept of Operations (CONOPS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06520" y="1353960"/>
          <a:ext cx="8229600" cy="4910400"/>
        </p:xfrm>
        <a:graphic>
          <a:graphicData uri="http://schemas.openxmlformats.org/drawingml/2006/table">
            <a:tbl>
              <a:tblPr/>
              <a:tblGrid>
                <a:gridCol w="1555560"/>
                <a:gridCol w="667404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Solution(s) and Concept of Operations (CONOP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98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Solution(s)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significantly improves security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ment processes, controls and performanc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minates unneeded redundancy, and reduces cost.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OP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reflects the planned operational implementation o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ommon solution(s), aligning with the Federal Enterpri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tecture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13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33280" indent="-23328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e responses from BDR, RFI, other pertinent studies and evaluations, determine best practices, and the feasibility of application to the Federal IT enviro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3280" indent="-23328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Common Solution(s) and CONOPS to achieve vision, goals, and ob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D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4/0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Drafted Common Solution(s) and CON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/05   -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ized Common Solution(s) and CONO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8FD0-263C-42EF-8195-FC41BA9D89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urity LOB within the Context of the FE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38120" y="1417680"/>
            <a:ext cx="7486560" cy="5310000"/>
            <a:chOff x="438120" y="1417680"/>
            <a:chExt cx="7486560" cy="531000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rcRect l="0" t="1261" r="0" b="0"/>
            <a:stretch/>
          </p:blipFill>
          <p:spPr>
            <a:xfrm>
              <a:off x="681120" y="1417680"/>
              <a:ext cx="7243560" cy="52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 rot="16200000">
              <a:off x="3411720" y="3566520"/>
              <a:ext cx="117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Economic Develop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16200000">
              <a:off x="3106440" y="3446640"/>
              <a:ext cx="1175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Educ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16200000">
              <a:off x="2538360" y="3507840"/>
              <a:ext cx="129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Community and Social Servic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16200000">
              <a:off x="2130840" y="3593520"/>
              <a:ext cx="1262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Healt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0000">
              <a:off x="1704600" y="3634920"/>
              <a:ext cx="1174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Human Resourc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6200000">
              <a:off x="1368360" y="3566520"/>
              <a:ext cx="117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Financial Manage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6200000">
              <a:off x="3765240" y="3634920"/>
              <a:ext cx="1174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Natural Resourc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6200000">
              <a:off x="4232160" y="3566520"/>
              <a:ext cx="117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Homeland Securit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87560" y="3024000"/>
              <a:ext cx="639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HH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63600" y="2832120"/>
              <a:ext cx="639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Energ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57280" y="2641320"/>
              <a:ext cx="639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DH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98760" y="2279520"/>
              <a:ext cx="852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Interio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17680" y="2465280"/>
              <a:ext cx="852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Justic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84520" y="2098440"/>
              <a:ext cx="852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EP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25600" y="1550880"/>
              <a:ext cx="852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SB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55880" y="1914480"/>
              <a:ext cx="852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Defens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1733400"/>
              <a:ext cx="852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Black"/>
                </a:rPr>
                <a:t>Treasur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200000">
              <a:off x="-155160" y="4952520"/>
              <a:ext cx="15858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9999ff"/>
                  </a:solidFill>
                  <a:latin typeface="Arial"/>
                </a:rPr>
                <a:t>Reusable Service Compon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54240" y="6545160"/>
              <a:ext cx="1586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9900"/>
                  </a:solidFill>
                  <a:latin typeface="Arial"/>
                </a:rPr>
                <a:t>Services to Citize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8789000">
              <a:off x="623160" y="2095920"/>
              <a:ext cx="158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g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230480" y="6468840"/>
              <a:ext cx="18144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99ff"/>
                  </a:solidFill>
                  <a:latin typeface="Arial"/>
                </a:rPr>
                <a:t>Management of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99ff"/>
                  </a:solidFill>
                  <a:latin typeface="Arial"/>
                </a:rPr>
                <a:t>Government Resour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38120" y="1398600"/>
            <a:ext cx="7486560" cy="5329080"/>
            <a:chOff x="438120" y="1398600"/>
            <a:chExt cx="7486560" cy="5329080"/>
          </a:xfrm>
        </p:grpSpPr>
        <p:pic>
          <p:nvPicPr>
            <p:cNvPr id="173" name="" descr=""/>
            <p:cNvPicPr/>
            <p:nvPr/>
          </p:nvPicPr>
          <p:blipFill>
            <a:blip r:embed="rId2"/>
            <a:srcRect l="0" t="904" r="0" b="0"/>
            <a:stretch/>
          </p:blipFill>
          <p:spPr>
            <a:xfrm>
              <a:off x="681120" y="1398600"/>
              <a:ext cx="7243560" cy="523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" name=""/>
            <p:cNvGrpSpPr/>
            <p:nvPr/>
          </p:nvGrpSpPr>
          <p:grpSpPr>
            <a:xfrm>
              <a:off x="438120" y="1550520"/>
              <a:ext cx="4957920" cy="5177160"/>
              <a:chOff x="438120" y="1550520"/>
              <a:chExt cx="4957920" cy="5177160"/>
            </a:xfrm>
          </p:grpSpPr>
          <p:sp>
            <p:nvSpPr>
              <p:cNvPr id="175" name=""/>
              <p:cNvSpPr/>
              <p:nvPr/>
            </p:nvSpPr>
            <p:spPr>
              <a:xfrm>
                <a:off x="976320" y="4601880"/>
                <a:ext cx="441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 Black"/>
                  </a:rPr>
                  <a:t>Mapping / Geospatial / Elevation / GP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976320" y="4973400"/>
                <a:ext cx="441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Black"/>
                  </a:rPr>
                  <a:t>Security &amp; Privacy Managem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976320" y="5384520"/>
                <a:ext cx="4419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Black"/>
                  </a:rPr>
                  <a:t>Records Managem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16200000">
                <a:off x="3411720" y="3566520"/>
                <a:ext cx="117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Economic Develop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6200000">
                <a:off x="3106440" y="3445920"/>
                <a:ext cx="117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Educat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6200000">
                <a:off x="2538000" y="3507840"/>
                <a:ext cx="1292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Community and Social Servi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6200000">
                <a:off x="2130840" y="3593160"/>
                <a:ext cx="1262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Heal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6200000">
                <a:off x="1704600" y="3634920"/>
                <a:ext cx="117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Human Resour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6200000">
                <a:off x="1368360" y="3566520"/>
                <a:ext cx="117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Financial Manage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6200000">
                <a:off x="3765240" y="3634920"/>
                <a:ext cx="11746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Natural Resource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6200000">
                <a:off x="4232160" y="3566520"/>
                <a:ext cx="1174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Homeland Securit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087560" y="3024000"/>
                <a:ext cx="639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HH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263600" y="2831760"/>
                <a:ext cx="639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Energ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457280" y="2641320"/>
                <a:ext cx="639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DH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598760" y="2279160"/>
                <a:ext cx="852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Interior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17680" y="2464920"/>
                <a:ext cx="852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Justic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784520" y="2098440"/>
                <a:ext cx="852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EP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325600" y="1550520"/>
                <a:ext cx="852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SB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955880" y="1914120"/>
                <a:ext cx="852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Defens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141640" y="1733040"/>
                <a:ext cx="8524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 Black"/>
                  </a:rPr>
                  <a:t>Treasur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6200000">
                <a:off x="-155160" y="4952160"/>
                <a:ext cx="15858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9999ff"/>
                    </a:solidFill>
                    <a:latin typeface="Arial"/>
                  </a:rPr>
                  <a:t>Reusable Service Componen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054240" y="6544800"/>
                <a:ext cx="1586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9900"/>
                    </a:solidFill>
                    <a:latin typeface="Arial"/>
                  </a:rPr>
                  <a:t>Services to Citize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8789000">
                <a:off x="623160" y="2095560"/>
                <a:ext cx="1585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genci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230480" y="6468840"/>
                <a:ext cx="181440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99ff"/>
                    </a:solidFill>
                    <a:latin typeface="Arial"/>
                  </a:rPr>
                  <a:t>Management of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cc99ff"/>
                    </a:solidFill>
                    <a:latin typeface="Arial"/>
                  </a:rPr>
                  <a:t>Government Resour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"/>
          <p:cNvSpPr/>
          <p:nvPr/>
        </p:nvSpPr>
        <p:spPr>
          <a:xfrm>
            <a:off x="4559400" y="5638680"/>
            <a:ext cx="4495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99"/>
                </a:solidFill>
                <a:latin typeface="Arial"/>
              </a:rPr>
              <a:t>The FEA Defines LoBs and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037-8265-4CCD-A981-BF3A77EDEE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liverables for the FEA Reference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28560" y="135252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-out of the segment by development of four produ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Profile: Articulates the purpose and defining functional requirements for IT Secu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al Profile: Defines target service components within the context of the Federal Enterprise Architecture (FE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Strategy: Identifies the context of the implementation / sequencing pla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am of agency architects is being formed to work collaboratively with IT security subject matter experts to fully define and develop the Service Component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0D88-5B8E-487B-9A69-411FC53F8F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iness Case(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457200" y="1600200"/>
          <a:ext cx="8229600" cy="4883040"/>
        </p:xfrm>
        <a:graphic>
          <a:graphicData uri="http://schemas.openxmlformats.org/drawingml/2006/table">
            <a:tbl>
              <a:tblPr/>
              <a:tblGrid>
                <a:gridCol w="1531800"/>
                <a:gridCol w="6697800"/>
              </a:tblGrid>
              <a:tr h="6386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Case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FY07 Exhibit 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44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ten by Task Fo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and benefits of common solution(s), alternatives, and development of target archite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ludes pertinent references to the Federal Enterprise Architecture as noted in A-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and analysis must provide the information required for on-going project management and evalu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30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ivery D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10/05 -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Business Case(s) distributed to agen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28/0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evised draft with comments from agen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5/05 -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 summarizing agencies’ 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15/05 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gencies align their Business Cas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/0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inalized Joint Business Case(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EBB-7E4A-49E4-AA39-C0DAFC046B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B Logis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406160"/>
            <a:ext cx="8229600" cy="723960"/>
          </a:xfrm>
          <a:prstGeom prst="rect">
            <a:avLst/>
          </a:prstGeom>
          <a:solidFill>
            <a:srgbClr val="fff1c4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TS LoB Task Force needs to complete the necessary next steps to ensure resources and logistics are in place for an effective and efficient working environmen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9760" y="2394000"/>
            <a:ext cx="81165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25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ff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07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B Working Groups’ leads need to be identified and engaged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07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ncies will dedicate appropriate staff at 75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25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aborative working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07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e.Gov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07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sk Force will receive training tailored to ITS LO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2527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disclosure Agreement and Conflict of Inter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07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ned at or after Kick-O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0772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tained by Working Group lea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9C64-6F87-47DB-AC6E-22C0F653948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B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3200" y="2235240"/>
            <a:ext cx="8037360" cy="40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spcAft>
                <a:spcPts val="249"/>
              </a:spcAft>
              <a:buClr>
                <a:srgbClr val="8000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ekly status meeting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ing Partners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uesdays 3:00 – 4: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spcAft>
                <a:spcPts val="249"/>
              </a:spcAft>
              <a:buClr>
                <a:srgbClr val="8000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nthly status meetin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Sponsors and Managing Partners on 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ek of every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spcAft>
                <a:spcPts val="249"/>
              </a:spcAft>
              <a:buClr>
                <a:srgbClr val="8000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ekly checkpoint conference cal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B Working Group Conference calls – Time T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spcAft>
                <a:spcPts val="249"/>
              </a:spcAft>
              <a:buClr>
                <a:srgbClr val="8000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-needed commun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Force will consult and communicate with interagency entities (e.g., CIO Council, CISO Forum, Chief Architects Forum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6800" y="1328760"/>
            <a:ext cx="8229600" cy="771480"/>
          </a:xfrm>
          <a:prstGeom prst="rect">
            <a:avLst/>
          </a:prstGeom>
          <a:solidFill>
            <a:srgbClr val="fff1c4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success and sustainment of the ITS LoB initiative will rely in large part on the establishment of an effective operational stru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F505-3C62-4364-951F-70A8190A3A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Steps/Wrap 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95360" y="1352160"/>
            <a:ext cx="8229600" cy="771480"/>
          </a:xfrm>
          <a:prstGeom prst="rect">
            <a:avLst/>
          </a:prstGeom>
          <a:solidFill>
            <a:srgbClr val="fff1c4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oB managing partners need to engage the participating agencies immediately to develop the spend plan, define ITS LoB vision, and develop ITS LoB RF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4640" y="2346480"/>
            <a:ext cx="8002800" cy="54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spcAft>
                <a:spcPts val="300"/>
              </a:spcAft>
              <a:buClr>
                <a:srgbClr val="8000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Ques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spcAft>
                <a:spcPts val="300"/>
              </a:spcAft>
              <a:buClr>
                <a:srgbClr val="8000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 for the Task Fo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spcAft>
                <a:spcPts val="300"/>
              </a:spcAft>
              <a:buClr>
                <a:srgbClr val="8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 Task Force membershi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28/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spcAft>
                <a:spcPts val="300"/>
              </a:spcAft>
              <a:buClr>
                <a:srgbClr val="8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Force Governance Stru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28/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spcAft>
                <a:spcPts val="300"/>
              </a:spcAft>
              <a:buClr>
                <a:srgbClr val="8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 Vision, Goals, Objec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28/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spcAft>
                <a:spcPts val="300"/>
              </a:spcAft>
              <a:buClr>
                <a:srgbClr val="8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 Talking Poi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28/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spcAft>
                <a:spcPts val="300"/>
              </a:spcAft>
              <a:buClr>
                <a:srgbClr val="8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ize BDR and RF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/28/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spcAft>
                <a:spcPts val="300"/>
              </a:spcAft>
              <a:buClr>
                <a:srgbClr val="8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Finalize Spend Pl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/07/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1B08-C936-404F-89EC-D3DB86EAFA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ing Partn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93440" y="1352520"/>
            <a:ext cx="69930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l Services Administration (Detailed to OMB) – Project Execu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hn Sinde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2-501-88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ohn.sindelar@gsa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artment of Homeland 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ke Sm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3-235-51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ke.C.Smith@dhs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ional Security Ag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gie Gilb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3-501-14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gilbert777@comcast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e of Management and Bud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smeet Seeh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2-395-31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asmeet_K._Seehr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@omb.eop.g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53DB-3FBF-493E-A0EF-0965439EF4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S LoB Kick-Off Meeting Outco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4040" y="1746360"/>
            <a:ext cx="770724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understanding of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 and expected outcomes for ITS L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milestones, approach, and ac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 and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iverables and immediate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C1BA-344F-4066-8476-305A361EF1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S LoB Kick-Off Meeting 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10600" y="1271160"/>
            <a:ext cx="871236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: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pening Remarks and Welcome 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y Johnson (OMB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en Evans (OMB), Tom DiNanno (DH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: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ext for Lines of Business Opportunitie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 Young (OM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:2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ion, Goals, and Objective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nn Schlarman (OM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:30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B Focus –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e Smith (DHS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ie Gilbert (N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:5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ed LoB Deliverables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Sindelar (G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:00   Request for Information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Sinde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: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on Solution(s), Concept of Operations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gie Gilbe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:20   Target Architecture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Prompovitch (OM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:3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usiness Case(s)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nn Schlarma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:4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B Management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Sinde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:5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xt Steps and Wrap Up 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Sinde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3DC5-542E-44E9-8069-F4FD9519B9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es of Business Opportunit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14000" y="2644920"/>
            <a:ext cx="496404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Bs initiated in FY2004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Management (F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Resources Management (H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ts Management (G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eral Health Architecture (F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se Management (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LoBs have progress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processes have been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ers of Excellence/Shared Services Centers are being establish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e diligence validation in FM,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1447920"/>
            <a:ext cx="8458200" cy="685800"/>
          </a:xfrm>
          <a:prstGeom prst="rect">
            <a:avLst/>
          </a:prstGeom>
          <a:solidFill>
            <a:srgbClr val="fff1c4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oB Task Forces are focused on a business-driven, common solution developed through architectural proces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2308320"/>
            <a:ext cx="3363840" cy="4244760"/>
          </a:xfrm>
          <a:prstGeom prst="rect">
            <a:avLst/>
          </a:prstGeom>
          <a:solidFill>
            <a:srgbClr val="e5f5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t">
            <a:normAutofit fontScale="98000"/>
          </a:bodyPr>
          <a:p>
            <a:pPr marL="1080" indent="-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mmon Solution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: A business process and/or technology based shared service made available to government agencie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80" indent="-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80" indent="-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Business Driven (vs. Technology Driven)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: Solutions address distinct business improvements that directly impact LoB performance goals.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80" indent="-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080" indent="-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Developed Through Architectural Processe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: Solutions are developed through a set of common and repeatable processes and tool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591B-1368-4D19-9A31-F02F041740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762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s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deral Government’s information systems security program enables agencies’ mission objectives through a comprehensive and consistently implemented set of risk-based, cost-effective controls and measures that adequately protects information contained in Federal Government information system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al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spcAft>
                <a:spcPts val="224"/>
              </a:spcAft>
              <a:buClr>
                <a:srgbClr val="8000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problems and propose solutions to strengthen the ability of all agencies to identify and manage information security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spcAft>
                <a:spcPts val="224"/>
              </a:spcAft>
              <a:buClr>
                <a:srgbClr val="8000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, consistent, and measurable information security processes and controls across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901"/>
              </a:spcBef>
              <a:spcAft>
                <a:spcPts val="224"/>
              </a:spcAft>
              <a:buClr>
                <a:srgbClr val="800000"/>
              </a:buClr>
              <a:buSzPct val="8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hieve savings or cost-avoidance through reduced duplication and economies of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20800" y="5302080"/>
            <a:ext cx="510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aeaea"/>
                </a:solidFill>
                <a:latin typeface="Arial"/>
              </a:rPr>
              <a:t>DRA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S LoB Vision, Goals, and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5E7A-25A9-465E-A230-A05D33E384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65440" y="3059280"/>
            <a:ext cx="510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aeaea"/>
                </a:solidFill>
                <a:latin typeface="Arial"/>
              </a:rPr>
              <a:t>DRA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S LoB Vision, Goals, and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53760" y="1847880"/>
            <a:ext cx="7845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problems and propose solutions to strengthen     the ability of all agencies to (1) conduct: training, specialized training and knowledge sharing; threat awareness and incident response capability; program management; security lifecycle; selection, evaluation, and implementation of security products; and (2) defend against threats, correct vulnerabilities, and manage resulting risks (including those specific to a single agency or shared among other agencies)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E56E-4982-44F2-AA2F-D33BCB56EF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765440" y="3059280"/>
            <a:ext cx="510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aeaea"/>
                </a:solidFill>
                <a:latin typeface="Arial"/>
              </a:rPr>
              <a:t>DRAF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rent ITS LoB Foc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38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ve Candidate Activities Have Been Identifi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, Specialized Training and Knowledge Shar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at Awareness and Incident Response Cap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ity Lifecyc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lection, Evaluation, and Implementation of Security Produ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ACBA-EF32-4BF7-90D5-E74FC88381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69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S Line of Busines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-Level Plan of 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824120"/>
            <a:ext cx="84582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4560" y="1600200"/>
            <a:ext cx="0" cy="4648320"/>
          </a:xfrm>
          <a:prstGeom prst="line">
            <a:avLst/>
          </a:prstGeom>
          <a:ln w="1260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74640" y="1600200"/>
            <a:ext cx="0" cy="4648320"/>
          </a:xfrm>
          <a:prstGeom prst="line">
            <a:avLst/>
          </a:prstGeom>
          <a:ln w="1260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75080" y="1600200"/>
            <a:ext cx="0" cy="4648320"/>
          </a:xfrm>
          <a:prstGeom prst="line">
            <a:avLst/>
          </a:prstGeom>
          <a:ln w="1260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5240" y="1600200"/>
            <a:ext cx="0" cy="4648320"/>
          </a:xfrm>
          <a:prstGeom prst="line">
            <a:avLst/>
          </a:prstGeom>
          <a:ln w="1260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75160" y="1600200"/>
            <a:ext cx="0" cy="4648320"/>
          </a:xfrm>
          <a:prstGeom prst="line">
            <a:avLst/>
          </a:prstGeom>
          <a:ln w="1260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75320" y="1600200"/>
            <a:ext cx="0" cy="4648320"/>
          </a:xfrm>
          <a:prstGeom prst="line">
            <a:avLst/>
          </a:prstGeom>
          <a:ln w="1260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575400" y="1600200"/>
            <a:ext cx="0" cy="4648320"/>
          </a:xfrm>
          <a:prstGeom prst="line">
            <a:avLst/>
          </a:prstGeom>
          <a:ln w="1260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85200" y="1600200"/>
            <a:ext cx="0" cy="4648320"/>
          </a:xfrm>
          <a:prstGeom prst="line">
            <a:avLst/>
          </a:prstGeom>
          <a:ln w="1260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0320" y="1600200"/>
            <a:ext cx="57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. ‘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9320" y="1601640"/>
            <a:ext cx="604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ril ‘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48960" y="1601640"/>
            <a:ext cx="511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y 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73160" y="1601640"/>
            <a:ext cx="613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ne ‘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72880" y="1601640"/>
            <a:ext cx="56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uly 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23640" y="1601640"/>
            <a:ext cx="738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gust 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48560" y="1601640"/>
            <a:ext cx="58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pt. 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2133720"/>
            <a:ext cx="990720" cy="914400"/>
          </a:xfrm>
          <a:custGeom>
            <a:avLst/>
            <a:gdLst>
              <a:gd name="textAreaLeft" fmla="*/ 0 w 990720"/>
              <a:gd name="textAreaRight" fmla="*/ 991080 w 9907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04" y="0"/>
                </a:lnTo>
                <a:lnTo>
                  <a:pt x="21600" y="10800"/>
                </a:lnTo>
                <a:lnTo>
                  <a:pt x="1810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FI and BDR to industry &amp; ag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9051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58" y="0"/>
                </a:lnTo>
                <a:lnTo>
                  <a:pt x="21600" y="10800"/>
                </a:lnTo>
                <a:lnTo>
                  <a:pt x="186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99"/>
          </a:solidFill>
          <a:ln w="12600">
            <a:solidFill>
              <a:srgbClr val="bf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ck-off Lo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2743200"/>
            <a:ext cx="990360" cy="1371600"/>
          </a:xfrm>
          <a:custGeom>
            <a:avLst/>
            <a:gdLst>
              <a:gd name="textAreaLeft" fmla="*/ 0 w 990360"/>
              <a:gd name="textAreaRight" fmla="*/ 990720 w 99036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81" y="0"/>
                </a:lnTo>
                <a:lnTo>
                  <a:pt x="21600" y="10800"/>
                </a:lnTo>
                <a:lnTo>
                  <a:pt x="174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9f7ff"/>
          </a:solidFill>
          <a:ln w="12600">
            <a:solidFill>
              <a:srgbClr val="9d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aft Common Solution(s), CONOP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erprise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505320"/>
            <a:ext cx="990720" cy="1066680"/>
          </a:xfrm>
          <a:custGeom>
            <a:avLst/>
            <a:gdLst>
              <a:gd name="textAreaLeft" fmla="*/ 0 w 990720"/>
              <a:gd name="textAreaRight" fmla="*/ 991080 w 9907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481" y="0"/>
                </a:lnTo>
                <a:lnTo>
                  <a:pt x="21600" y="10800"/>
                </a:lnTo>
                <a:lnTo>
                  <a:pt x="174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cef9e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Draft 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(s)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tribution to Agencies for Com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4114800"/>
            <a:ext cx="990720" cy="762120"/>
          </a:xfrm>
          <a:custGeom>
            <a:avLst/>
            <a:gdLst>
              <a:gd name="textAreaLeft" fmla="*/ 0 w 990720"/>
              <a:gd name="textAreaRight" fmla="*/ 991080 w 99072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23" y="0"/>
                </a:lnTo>
                <a:lnTo>
                  <a:pt x="21600" y="10800"/>
                </a:lnTo>
                <a:lnTo>
                  <a:pt x="1862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cies Adjust Their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534520" y="1600200"/>
            <a:ext cx="0" cy="4648320"/>
          </a:xfrm>
          <a:prstGeom prst="line">
            <a:avLst/>
          </a:prstGeom>
          <a:ln w="12600">
            <a:solidFill>
              <a:srgbClr val="00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4724280"/>
            <a:ext cx="990720" cy="1219320"/>
          </a:xfrm>
          <a:custGeom>
            <a:avLst/>
            <a:gdLst>
              <a:gd name="textAreaLeft" fmla="*/ 0 w 990720"/>
              <a:gd name="textAreaRight" fmla="*/ 991080 w 99072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54" y="0"/>
                </a:lnTo>
                <a:lnTo>
                  <a:pt x="21600" y="10800"/>
                </a:lnTo>
                <a:lnTo>
                  <a:pt x="194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Business Case(s) to O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620120" y="1600200"/>
            <a:ext cx="103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ct- Dec 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43800" y="5105520"/>
            <a:ext cx="990720" cy="914400"/>
          </a:xfrm>
          <a:custGeom>
            <a:avLst/>
            <a:gdLst>
              <a:gd name="textAreaLeft" fmla="*/ 0 w 990720"/>
              <a:gd name="textAreaRight" fmla="*/ 991080 w 9907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54" y="0"/>
                </a:lnTo>
                <a:lnTo>
                  <a:pt x="21600" y="10800"/>
                </a:lnTo>
                <a:lnTo>
                  <a:pt x="194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cc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B Budget Review and Resour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6324480"/>
            <a:ext cx="2743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8120" y="6019920"/>
            <a:ext cx="5486400" cy="2750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edf5d5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to Improve Security Management Processes and Contr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4572000"/>
            <a:ext cx="990360" cy="762120"/>
          </a:xfrm>
          <a:custGeom>
            <a:avLst/>
            <a:gdLst>
              <a:gd name="textAreaLeft" fmla="*/ 0 w 990360"/>
              <a:gd name="textAreaRight" fmla="*/ 990720 w 9903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54" y="0"/>
                </a:lnTo>
                <a:lnTo>
                  <a:pt x="21600" y="10800"/>
                </a:lnTo>
                <a:lnTo>
                  <a:pt x="194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Business Case(s) Final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B9D8-D60C-4588-8E7D-6F4370079C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cted ITS LoB Deliver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39840" y="2152800"/>
          <a:ext cx="8499240" cy="4449600"/>
        </p:xfrm>
        <a:graphic>
          <a:graphicData uri="http://schemas.openxmlformats.org/drawingml/2006/table">
            <a:tbl>
              <a:tblPr/>
              <a:tblGrid>
                <a:gridCol w="1371600"/>
                <a:gridCol w="71276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es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28/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Vision, Goals, and Objectiv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2/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 Data Request (BDR) to Agen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4/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for Information (RFI) to Industry, Agencies, Non-Prof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7/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FY05 Spend Pl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18/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ment and Industry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1/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I and BDR Responses analyzed and summar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4/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Common Solution(s), CONOPS, and Target Archite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/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Common Solution(s), CONOPS, and Target Archite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10/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Joint Business Case(s) to Agen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1/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Joint Business Case(s) to O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345960" y="1351080"/>
            <a:ext cx="8458200" cy="685800"/>
          </a:xfrm>
          <a:prstGeom prst="rect">
            <a:avLst/>
          </a:prstGeom>
          <a:solidFill>
            <a:srgbClr val="fff1c4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TS LoB Task Force will identify a common solution, Concept of Operations (CONOPS), target architecture, and business case by September 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F032-F6DD-4C27-A105-8AA6A51D50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23:52:37Z</dcterms:created>
  <dc:creator>OMB User</dc:creator>
  <dc:description/>
  <dc:language>en-US</dc:language>
  <cp:lastModifiedBy>GSA</cp:lastModifiedBy>
  <dcterms:modified xsi:type="dcterms:W3CDTF">2005-03-30T18:18:57Z</dcterms:modified>
  <cp:revision>223</cp:revision>
  <dc:subject/>
  <dc:title>Slide 1</dc:title>
</cp:coreProperties>
</file>