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741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998400" cy="927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963600" y="88074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15BE5B7-B53F-4F62-812D-41C9860CE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5160"/>
            <a:ext cx="4635360" cy="3476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0200" y="4403520"/>
            <a:ext cx="5597280" cy="4173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84D-5C95-44BD-8673-67600139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2C82-05E1-41EF-8CFB-6313CA54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583-9510-4ECD-BAA3-C1E1EDD39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2DD-68F9-47AC-B249-687EC7A8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7675-0FCC-4427-87E1-508E591D4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F42C-1EAC-4CEB-BB04-9B700506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7AF9-4290-49C8-8362-B59A8177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58F6-0936-4D2D-8CBA-7235FB0E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F906-9B85-4720-8F37-B7FBF7D4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959EA-A798-4AB1-BE73-CCFE8B1B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76A-01FE-4323-A918-FE6E6AAB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745-405E-4BC3-B43E-E09E195E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6CBA-462C-4AC8-B3E4-770900F6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D3EE-E377-4F06-AFC9-5EC925EA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8B4B-829E-4299-941D-E3B8354B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17F4-6DD5-4E14-B0FD-19CBD3DFA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CF80B-1528-4BB1-8428-9F156E10E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F73-1F74-42E8-9410-4DCC96B8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AEF5-09DA-4EE7-BD02-EF4B8F8D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A60-251B-4A57-BC3A-3D4BD332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E17A-BD74-43CC-87E0-6C5E8FE0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8514-023F-4846-BE30-9EACF0F6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FB6-2773-4210-811B-1B80581E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F6EC-00A3-48DF-AA27-609E79A1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D1B1-7A54-40E2-90E5-A30C2DFCF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 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8888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533520" y="11430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63360" y="71280"/>
            <a:ext cx="986040" cy="98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7CDD-FE98-4FD6-A84C-85CA82F94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 "/>
          <p:cNvPicPr/>
          <p:nvPr/>
        </p:nvPicPr>
        <p:blipFill>
          <a:blip r:embed="rId2"/>
          <a:stretch/>
        </p:blipFill>
        <p:spPr>
          <a:xfrm>
            <a:off x="3540240" y="5257800"/>
            <a:ext cx="2057400" cy="1044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506760" y="512640"/>
            <a:ext cx="2236680" cy="2237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collab.core.gov/" TargetMode="External"/><Relationship Id="rId2" Type="http://schemas.openxmlformats.org/officeDocument/2006/relationships/hyperlink" Target="http://collab.core.gov/" TargetMode="External"/><Relationship Id="rId3" Type="http://schemas.openxmlformats.org/officeDocument/2006/relationships/hyperlink" Target="mailto:von.harrison@gsa.gov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von.harrison@gsa.gov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0720" y="2843280"/>
            <a:ext cx="8299440" cy="25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e of Busines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ck Off Mee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ch 16,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Business C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568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siness C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joint FY08 Exhibit 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Written by the managing partners in collaboration with the participating agen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ust comply with A-11 guid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nt on identification of common solution and development of target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2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9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draft Business C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12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isseminate draft to agencies for 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19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gency comments d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arly Aug. ‘06</a:t>
                      </a:r>
                      <a:r>
                        <a:rPr b="0" lang="en-US" sz="16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– final business case re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617E-5808-493C-8B09-A16B9CF501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ing Partners and OMB Le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635120"/>
            <a:ext cx="7454880" cy="45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Infrastructur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:  Deidre Lee, G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Office Lead:  Dick Bu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Portfolio Manager: Jeff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ospatial LO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:  Ivan DeLoatch , D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Lead &amp; Portfolio Manager: Stacie Boy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udget Formulation and Exec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ing Partner: TB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Lead:  Andy Schoenb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B Portfolio Manager:  Jeff K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353-2268-41A1-BEB2-2CFB4C5B989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9560" y="1893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face to face status meetin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held with all of the managing partners and OMB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ursdays from 1-2:00 pm at the White House Conference Center, Jackson R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kpoint conference cal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be held with Managing Partners, OMB LOB leads, and GSA LOB PM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very Monday and Thursday at 8:30 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neede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B Task Forces will consult and communicate with interagency councils (e.g., Chief Financial Officers Council, Budget Officers Advisory Council, Chief Information Officers Council, Federal Geographic Data Committee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, interim and final briefing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needed fo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3720" y="1316160"/>
            <a:ext cx="8356680" cy="749160"/>
          </a:xfrm>
          <a:prstGeom prst="rect">
            <a:avLst/>
          </a:prstGeom>
          <a:solidFill>
            <a:srgbClr val="fff1c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uccess and sustainment of the current and upcoming LoB initiatives will rel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 large part on the establishment of an effective operational struc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6F24-7BDE-4A45-9E5D-836FC43FCCB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st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cies will dedicate appropriate staff for each L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 Task Force team leads need to be identified and engaged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ask Force Support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or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working environment:  LoB “Communities” are set up; task force members register 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lab.core.go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ore.g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B Task Force Mail Box:  LOB06@gsa.g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ck off meeting slides posted at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whitehouse.gov/omb/egov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ll LoB related media inquiries go to Von Harrison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von.harrison@gsa.gov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2 273-07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0280" y="1373040"/>
            <a:ext cx="8231040" cy="621000"/>
          </a:xfrm>
          <a:prstGeom prst="rect">
            <a:avLst/>
          </a:prstGeom>
          <a:solidFill>
            <a:srgbClr val="fff1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LoB Task Forces need to complete the necessary next steps in order to ens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esources and logistics are in place for an effective and efficient working environmen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768-A0C8-43F9-90A9-D1E469F099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8440" y="2075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mediate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/17/06 – 3/23/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or support available to assist Task Forces with RFI development and analysis, and practitioners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and use Collab.core.g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/20-22/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B Task Force initial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spatial LOB initial meeting:  March 20, 9-11:00 at D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nfrastructure LOB: March 21, 10-11:30 at G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ing LOB: March 22, 1-3:00 at WHC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3/28/0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nd submit draft spend plan and Vision, Goals and Objectives, to 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4/6/0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velop and submit RFI to industry, government and non-pro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9900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id April to Mid M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request agency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85720" y="1262160"/>
            <a:ext cx="8193240" cy="712800"/>
          </a:xfrm>
          <a:prstGeom prst="rect">
            <a:avLst/>
          </a:prstGeom>
          <a:solidFill>
            <a:srgbClr val="fff1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oB managing partners need to engage the participating agencies immediately to develo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pend plan, finalize the LoB vision, and to develop the RF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D118-A20C-44E1-A6D7-9324A66D6A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firm understanding of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and expected outcomes for the LoB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ilestones, approach, and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0367-EC59-4C8E-A7EC-3D19A77BE3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SA LOB Program Manag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Har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on.harrison@gsa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fice: 202 273-07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:  202 236-50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63D2-05AF-4278-B1B6-0D0C012D6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LOB Task Force Meetings/Ca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30040" y="1612800"/>
            <a:ext cx="728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Geospatial LOB meeting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day, March 20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– 11:00 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DOI Office Building (18th and C St. N.W.), Room 1352, 1st Flo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IT Infrastructure Optimization LOB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uesday, March 21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-11:30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SA; room TB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Budget Formulation and Execution LOB meeting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dnesday, March 22,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-3:00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te House Conference Center, Truman Room, 726 Jackson Place,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irst Checkpoint conference cal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, March 23, 8:30 am (and each Monday and Thursday thereaf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irst Managing Partner meet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ursday, March 23, 1-2:00 pm (and each Thursday thereaf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te House Conference Center, Jackson Room, 726 Jackson Place, N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:  Meetings are open only to Government personnel and Government designated contr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BDC4-D40C-49A2-B61D-86E69D264D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B Kick-Off Meeting Outcom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9160" y="1480680"/>
            <a:ext cx="8229600" cy="45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understanding of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 and expected outcomes for the LoB initia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ilestones, approach, and action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s &amp;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ediate next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8E9-E876-4024-A151-DB75D5DD11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8640"/>
            <a:ext cx="822960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B Kick-Off Meeting Agend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03040" y="1641240"/>
            <a:ext cx="8553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0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pening Remarks &amp; Welcome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lay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0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ines of Business Opportunitie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Karen Ev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ynn Scarlett, Beth Robinson, and Deidre 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1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High-level Timeline and Milestones,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John Sinde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d LoB Deliver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35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oB Logistics and Managemen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Von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troduction - LOB Manag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50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Q&amp;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MB, G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:55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rap up and Closing Remark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im Yo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01"/>
              </a:spcBef>
              <a:spcAft>
                <a:spcPts val="2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:00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jo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D6A0-26D7-4B22-8296-9813B93323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2372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s of Business Opportun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187360"/>
            <a:ext cx="91440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9360" y="1728720"/>
            <a:ext cx="796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9280" y="1346040"/>
            <a:ext cx="8078760" cy="642600"/>
          </a:xfrm>
          <a:prstGeom prst="rect">
            <a:avLst/>
          </a:prstGeom>
          <a:solidFill>
            <a:srgbClr val="fff1c4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MB and the LoB Task Forces are focused on business-driven, comm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utions developed through architectural processe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1760" y="2811600"/>
            <a:ext cx="359892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e following LoBs will 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dertaken in FY 200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udget Formulation an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T Infrastructure Opti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Geospat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89240" y="2560680"/>
            <a:ext cx="4738680" cy="314136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Common Solution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 A business process and/or technology based shared service made available to government agen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Business Driven (vs. Technology Driven)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 Solutions address distinct business improvements that directly impact LoB performance goals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66"/>
                </a:solidFill>
                <a:uFillTx/>
                <a:latin typeface="Arial"/>
              </a:rPr>
              <a:t>Developed Through Architectural Processe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: Solutions are developed through a set of common and repeatable processes and too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6E1-72E7-4870-88D0-67CD1B521C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7448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-Level Timel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73000"/>
            <a:ext cx="9144000" cy="55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838080" y="1843200"/>
            <a:ext cx="7467480" cy="4647600"/>
            <a:chOff x="838080" y="1843200"/>
            <a:chExt cx="7467480" cy="4647600"/>
          </a:xfrm>
        </p:grpSpPr>
        <p:sp>
          <p:nvSpPr>
            <p:cNvPr id="108" name=""/>
            <p:cNvSpPr/>
            <p:nvPr/>
          </p:nvSpPr>
          <p:spPr>
            <a:xfrm>
              <a:off x="838080" y="2067120"/>
              <a:ext cx="74674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772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0780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0824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0840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0832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10848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0856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18360" y="1843200"/>
              <a:ext cx="0" cy="4647600"/>
            </a:xfrm>
            <a:prstGeom prst="line">
              <a:avLst/>
            </a:prstGeom>
            <a:ln w="1260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92040" y="18432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r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1040" y="1844640"/>
              <a:ext cx="64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pr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80680" y="1844640"/>
              <a:ext cx="681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y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05600" y="184464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un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5320" y="1844640"/>
              <a:ext cx="605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ul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55720" y="1844640"/>
              <a:ext cx="68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g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79920" y="1844640"/>
              <a:ext cx="66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p 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914400" y="2076480"/>
            <a:ext cx="78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ick Off Me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1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380988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posed Comm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lutions &amp; Draf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/9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441972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aft Solutions &amp;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2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124080"/>
            <a:ext cx="73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I Distributed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/6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81080" y="3962520"/>
            <a:ext cx="2057400" cy="361800"/>
          </a:xfrm>
          <a:custGeom>
            <a:avLst/>
            <a:gdLst>
              <a:gd name="textAreaLeft" fmla="*/ 0 w 2057400"/>
              <a:gd name="textAreaRight" fmla="*/ 2057400 w 2057400"/>
              <a:gd name="textAreaTop" fmla="*/ 0 h 361800"/>
              <a:gd name="textAreaBottom" fmla="*/ 362160 h 36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20" y="0"/>
                </a:lnTo>
                <a:lnTo>
                  <a:pt x="21600" y="10800"/>
                </a:lnTo>
                <a:lnTo>
                  <a:pt x="206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 Common Solu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amp; Target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2590920"/>
            <a:ext cx="1009800" cy="38088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99"/>
          </a:solidFill>
          <a:ln w="12600">
            <a:solidFill>
              <a:srgbClr val="bf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/ Plan L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60400" y="6197760"/>
            <a:ext cx="7331040" cy="293400"/>
          </a:xfrm>
          <a:custGeom>
            <a:avLst/>
            <a:gdLst>
              <a:gd name="textAreaLeft" fmla="*/ 0 w 7331040"/>
              <a:gd name="textAreaRight" fmla="*/ 7331400 w 733104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94" y="0"/>
                </a:lnTo>
                <a:lnTo>
                  <a:pt x="21600" y="10800"/>
                </a:lnTo>
                <a:lnTo>
                  <a:pt x="2109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 and Communicate LoB Progress/Stat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6576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47242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124080"/>
            <a:ext cx="1300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FI Responses Received &amp; Evalu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/5/06-5/15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37339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426708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2514600"/>
            <a:ext cx="1067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B Vision &amp; Plan Comple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/28/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8195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523880" y="4952880"/>
            <a:ext cx="4953240" cy="381240"/>
          </a:xfrm>
          <a:custGeom>
            <a:avLst/>
            <a:gdLst>
              <a:gd name="textAreaLeft" fmla="*/ 0 w 4953240"/>
              <a:gd name="textAreaRight" fmla="*/ 4953600 w 495324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8" y="0"/>
                </a:lnTo>
                <a:lnTo>
                  <a:pt x="21600" y="10800"/>
                </a:lnTo>
                <a:lnTo>
                  <a:pt x="1995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9f7ff"/>
          </a:solidFill>
          <a:ln w="12600">
            <a:solidFill>
              <a:srgbClr val="9dd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Busines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2574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raft Joint Business Case due 6/9/06; Agency Comments due 6-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77120" y="5334120"/>
            <a:ext cx="990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l Joint Business C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ly Aug. ‘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5486400"/>
            <a:ext cx="152640" cy="15228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0512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4419720"/>
            <a:ext cx="0" cy="51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3276720"/>
            <a:ext cx="990360" cy="380880"/>
          </a:xfrm>
          <a:custGeom>
            <a:avLst/>
            <a:gdLst>
              <a:gd name="textAreaLeft" fmla="*/ 0 w 990360"/>
              <a:gd name="textAreaRight" fmla="*/ 990720 w 99036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00" y="0"/>
                </a:lnTo>
                <a:lnTo>
                  <a:pt x="21600" y="10800"/>
                </a:lnTo>
                <a:lnTo>
                  <a:pt x="180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cef9e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RF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71600" y="3060720"/>
            <a:ext cx="380520" cy="1066680"/>
            <a:chOff x="1371600" y="3060720"/>
            <a:chExt cx="380520" cy="1066680"/>
          </a:xfrm>
        </p:grpSpPr>
        <p:sp>
          <p:nvSpPr>
            <p:cNvPr id="146" name=""/>
            <p:cNvSpPr/>
            <p:nvPr/>
          </p:nvSpPr>
          <p:spPr>
            <a:xfrm>
              <a:off x="1371600" y="306072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71600" y="3060720"/>
              <a:ext cx="38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1371600" y="4140360"/>
            <a:ext cx="57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FB22-7C1D-40C2-89DF-A00B307CFF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ected LoB Outco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1720" y="1397160"/>
            <a:ext cx="801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4320" y="1430280"/>
            <a:ext cx="7697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2760" y="1281240"/>
            <a:ext cx="8356320" cy="744480"/>
          </a:xfrm>
          <a:prstGeom prst="rect">
            <a:avLst/>
          </a:prstGeom>
          <a:solidFill>
            <a:srgbClr val="fff1c4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LoB Task Forces will identify common solutions, develop a target architecture, and develop a joint (interagency) business case by August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42800" y="2279520"/>
          <a:ext cx="8229600" cy="3811680"/>
        </p:xfrm>
        <a:graphic>
          <a:graphicData uri="http://schemas.openxmlformats.org/drawingml/2006/table">
            <a:tbl>
              <a:tblPr/>
              <a:tblGrid>
                <a:gridCol w="1411200"/>
                <a:gridCol w="6818400"/>
              </a:tblGrid>
              <a:tr h="3819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eston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y Deliverabl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3/28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LoB Vision, Goals, and Objectives and project Plan (FY06 draft spend plan, project pla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/6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FI to Industry, Agenci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4/18-1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actitioner’s Day Mee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8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llection of Agency Data (4/10 – 5/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5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ue date for RFI Respon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15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FI Analysis and Summariz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5/26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Common Solutions and Target Archit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posed Common Solutions and Target Architec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Joint Business Case for LoB Common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12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Joint Business Case to Agencies for Com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6/19/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ue Date for Agency Comments on Draft Joint Business C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arly Aug 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inal Joint Business Case for LoB Common Solu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7E63-A902-4982-A583-1D2ACEFEF1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sion, Goals, &amp; Objectiv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600200"/>
          <a:ext cx="8229600" cy="439272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460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on, Goals, &amp;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508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statement that reflects what complete success looks lik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Goals are the desired results or achievements that the effort is directed at, making the vision a realit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Objectives are the tactical targets that lead to meeting the goa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ach line of business must identify common solutions and develop a supporting target enterprise architecture that addresses the goals and objectives of the vis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Managing partners develop a straw m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nduct Task Force working session to validate and ref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draft to OMB and review with O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evise and final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raft due to OMB COB </a:t>
                      </a: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/28/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1EC5-4183-4FB1-9EFB-6BBAFFABBF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est for Information (RFI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57200" y="1600200"/>
          <a:ext cx="8229600" cy="427032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5698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est for Information (RF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0812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Business performance requirements for the LoB will be submitted to industry vendors, non-profits and agencies for feedback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he RFI will include overarching, strategic questions fundamental to all the LoB initiatives as well as LoB-specific questions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rovide RFI purpose, guidelines, and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sks Forces will develop the RFIs and review/analyze the respo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nt on vision, goals, and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4/6/06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– submit to industry vendors, government and non-prof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/5/06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– collect submitted respon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/15/06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- analyze and summarize RFI responses in a re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702-0FE9-4382-811B-7F40722957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44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Solution &amp;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 Archite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1600200"/>
          <a:ext cx="8229600" cy="3724200"/>
        </p:xfrm>
        <a:graphic>
          <a:graphicData uri="http://schemas.openxmlformats.org/drawingml/2006/table">
            <a:tbl>
              <a:tblPr/>
              <a:tblGrid>
                <a:gridCol w="1509840"/>
                <a:gridCol w="6719760"/>
              </a:tblGrid>
              <a:tr h="611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228600" indent="-228600"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on Solution &amp; Target 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f7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 business process and/or technology based shared service made available to government agencies that achieves the vision, objectives, and performance metrics of the LoB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Employ responses from agency analysis and RF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velop target architecture that identifies the elements necessary to achieve LoB vision and ob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3280" indent="-233280">
                        <a:spcBef>
                          <a:spcPts val="400"/>
                        </a:spcBef>
                        <a:buClr>
                          <a:srgbClr val="3333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pendent on definition of vision, goals, and objectives and RFI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elivery 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5/26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draft Common Solution and Target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spcBef>
                          <a:spcPts val="400"/>
                        </a:spcBef>
                        <a:buClr>
                          <a:srgbClr val="cc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6/9/06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</a:t>
                      </a: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ubmit proposed Common Solution and Target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A3F2-3C04-4899-8EAD-6B927D390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23:52:37Z</dcterms:created>
  <dc:creator>OMB User</dc:creator>
  <dc:description/>
  <dc:language>en-US</dc:language>
  <cp:lastModifiedBy>higgins_s</cp:lastModifiedBy>
  <dcterms:modified xsi:type="dcterms:W3CDTF">2006-03-16T21:34:59Z</dcterms:modified>
  <cp:revision>9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6650305</vt:r8>
  </property>
  <property fmtid="{D5CDD505-2E9C-101B-9397-08002B2CF9AE}" pid="3" name="_AuthorEmail">
    <vt:lpwstr>Andrew_P._Crossett@omb.eop.gov</vt:lpwstr>
  </property>
  <property fmtid="{D5CDD505-2E9C-101B-9397-08002B2CF9AE}" pid="4" name="_AuthorEmailDisplayName">
    <vt:lpwstr>Crossett, Andrew P.</vt:lpwstr>
  </property>
  <property fmtid="{D5CDD505-2E9C-101B-9397-08002B2CF9AE}" pid="5" name="_EmailSubject">
    <vt:lpwstr>egov.gov updates  3.16.05</vt:lpwstr>
  </property>
  <property fmtid="{D5CDD505-2E9C-101B-9397-08002B2CF9AE}" pid="6" name="_NewReviewCycle">
    <vt:lpwstr/>
  </property>
  <property fmtid="{D5CDD505-2E9C-101B-9397-08002B2CF9AE}" pid="7" name="_PreviousAdHocReviewCycleID">
    <vt:r8>506835762</vt:r8>
  </property>
</Properties>
</file>