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97700" cy="9274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98400" cy="9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0200" y="4403520"/>
            <a:ext cx="559728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636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D390C3D-C324-4E77-9D08-4EEA1F652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0200" y="4403520"/>
            <a:ext cx="559728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0200" y="4403520"/>
            <a:ext cx="559728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9B26-75D7-48C9-AC8F-E7094F260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B230-9ED2-4F58-B54D-B19E65F6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3A39-E044-4F86-8484-EA1DADFA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5368-9CE5-4A37-A248-F58FD53E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BB9F-CEDD-4E2C-8E99-499B7352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7A8A-11B0-432B-B3F9-474B8D8A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7B82-6956-4E5E-989F-FDAD43DC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D751-D81D-4832-A223-18B34A9C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4CFC-BD02-4C71-9C27-00D5F50E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494B-52E2-484E-B406-69FA42A6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708A-B64C-4A69-A485-6C454D6D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7968-FEFB-4749-BAE7-F9E87A77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EB1F-8554-429B-B974-CEDF266B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C2B5-026A-436A-9B94-47848184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EB50-8208-4EC6-B3B3-8167328D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04F6-B1A3-4D42-98BA-B56E9D38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6B91-C232-4E2A-BBE8-03F30D39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05C9-E72B-4DE4-8EAF-B3C36FD1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A7B1-7FB6-4B24-9838-CC0666AF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7FEE-CF34-4DEE-862E-248CF1B9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7AA8-0FE1-40C9-AA9A-70738D23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299B-A517-427E-A033-C19AB6A5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4D47-E70E-46C5-AEBE-A8E06A5B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E2E-A643-4F1D-A74A-9DA4A1C3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DE15-3F2A-4988-898B-63FC7D7A9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 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8888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33520" y="11430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63360" y="71280"/>
            <a:ext cx="986040" cy="98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3DBA-97A3-41D4-A8BA-0F799557A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 "/>
          <p:cNvPicPr/>
          <p:nvPr/>
        </p:nvPicPr>
        <p:blipFill>
          <a:blip r:embed="rId2"/>
          <a:stretch/>
        </p:blipFill>
        <p:spPr>
          <a:xfrm>
            <a:off x="3540240" y="5257800"/>
            <a:ext cx="2057400" cy="1044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506760" y="512640"/>
            <a:ext cx="2236680" cy="2237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ollab.core.gov/" TargetMode="External"/><Relationship Id="rId2" Type="http://schemas.openxmlformats.org/officeDocument/2006/relationships/hyperlink" Target="http://collab.core.gov/" TargetMode="External"/><Relationship Id="rId3" Type="http://schemas.openxmlformats.org/officeDocument/2006/relationships/hyperlink" Target="mailto:von.harrison@gsa.gov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von.harrison@gsa.gov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0720" y="2843280"/>
            <a:ext cx="829944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 of Busines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ck Off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ch 16,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int Business C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229600" cy="3565440"/>
        </p:xfrm>
        <a:graphic>
          <a:graphicData uri="http://schemas.openxmlformats.org/drawingml/2006/table">
            <a:tbl>
              <a:tblPr/>
              <a:tblGrid>
                <a:gridCol w="1509840"/>
                <a:gridCol w="6719760"/>
              </a:tblGrid>
              <a:tr h="568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 joint FY08 Exhibit 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2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ritten by the managing partners in collaboration with the participating agen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ust comply with A-11 guid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pendent on identification of common solution and development of target archite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2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livery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6/9/0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ubmit draft Business C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6/12/0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isseminate draft to agencies for 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6/19/0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gency comments d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arly Aug. ‘06</a:t>
                      </a: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– final business case rea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BF15-00AB-461D-9AC2-D377F7B7CB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ing Partners and OMB Lea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635120"/>
            <a:ext cx="745488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T Infrastructur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ing Partner:  Deidre Lee, G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B Office Lead:  Dick Bu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B Portfolio Manager: Jeff K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ospatial LO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ing Partner:  Ivan DeLoatch , D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B Lead &amp; Portfolio Manager: Stacie Boy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udget Formulation and Exec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ing Partner: T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B Lead:  Andy Schoenb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B Portfolio Manager:  Jeff K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DD60-0FC3-490C-ABDF-3EBDA0024A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B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9560" y="189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ekly face to face status meetin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be held with all of the managing partners and OMB o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ursdays from 1-2:00 pm at the White House Conference Center, Jackson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point conference ca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be held with Managing Partners, OMB LOB leads, and GSA LOB PM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very Monday and Thursday at 8:30 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need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B Task Forces will consult and communicate with interagency councils (e.g., Chief Financial Officers Council, Budget Officers Advisory Council, Chief Information Officers Council, Federal Geographic Data Committee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, interim and final briefin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needed for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3720" y="1316160"/>
            <a:ext cx="8356680" cy="749160"/>
          </a:xfrm>
          <a:prstGeom prst="rect">
            <a:avLst/>
          </a:prstGeom>
          <a:solidFill>
            <a:srgbClr val="fff1c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success and sustainment of the current and upcoming LoB initiatives will re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 large part on the establishment of an effective operational stru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A882-9638-41CF-B2C9-00A15728A7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aff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ies will dedicate appropriate staff for each L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B Task Force team leads need to be identified and engaged immedi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ask Force Suppor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ctor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ive working environment:  LoB “Communities” are set up; task force members register a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llab.core.go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ore.g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B Task Force Mail Box:  LOB06@gs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ck off meeting slides posted at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whitehouse.gov/omb/egov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ll LoB related media inquiries go to Von Harrison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on.harrison@gsa.gov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2 273-07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280" y="1373040"/>
            <a:ext cx="8231040" cy="621000"/>
          </a:xfrm>
          <a:prstGeom prst="rect">
            <a:avLst/>
          </a:prstGeom>
          <a:solidFill>
            <a:srgbClr val="fff1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LoB Task Forces need to complete the necessary next steps in order to en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sources and logistics are in place for an effective and efficient working enviro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ACEC-1735-4775-BD04-A28D60CE58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8440" y="2075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mediate 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3/17/06 – 3/23/0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or support available to assist Task Forces with RFI development and analysis, and practitioners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be to and use Collab.core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3/20-22/0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B Task Force initial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spatial LOB initial meeting:  March 20, 9-11:00 at D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nfrastructure LOB: March 21, 10-11:30 at G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geting LOB: March 22, 1-3:00 at WH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3/28/0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nd submit draft spend plan and Vision, Goals and Objectives, to O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4/6/0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elop and submit RFI to industry, government and non-pro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Mid April to Mid M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request agenc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5720" y="1262160"/>
            <a:ext cx="8193240" cy="712800"/>
          </a:xfrm>
          <a:prstGeom prst="rect">
            <a:avLst/>
          </a:prstGeom>
          <a:solidFill>
            <a:srgbClr val="fff1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oB managing partners need to engage the participating agencies immediately to develo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spend plan, finalize the LoB vision, and to develop the RF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5F10-3FC4-47FF-9905-A28C7DEE13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ap 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rm understanding of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 and expected outcomes for the LoB initia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milestones, approach, and ac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 &amp;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C9A4-EBDD-40A1-8C4D-A7FDA3203A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A LOB Program Manag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n Har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on.harrison@gsa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: 202 273-07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ile:  202 236-50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226-4720-45C3-9D39-F7CBF163DE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 LOB Task Force Meetings/Ca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30040" y="1612800"/>
            <a:ext cx="728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Geospatial LOB meetin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day, March 20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– 11:00 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DOI Office Building (18th and C St. N.W.), Room 1352, 1st Floo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IT Infrastructure Optimization LOB meet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uesday, March 21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-11:30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SA; room TB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Budget Formulation and Execution LOB meeting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dnesday, March 22,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3:00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 House Conference Center, Truman Room, 726 Jackson Place, N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First Checkpoint conference cal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ursday, March 23, 8:30 am (and each Monday and Thursday thereaf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First Managing Partner meet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ursday, March 23, 1-2:00 pm (and each Thursday thereaf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ite House Conference Center, Jackson Room, 726 Jackson Place, N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TE:  Meetings are open only to Government personnel and Government designated contra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319-683B-4DFB-A3B7-092F444841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B Kick-Off Meeting Outcom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9160" y="1480680"/>
            <a:ext cx="822960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understanding of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 and expected outcomes for the LoB initia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milestones, approach, and ac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 &amp;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ediate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677F-7BD7-485A-BBBD-6C066C4F31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B Kick-Off Meeting 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03040" y="1641240"/>
            <a:ext cx="8553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5000"/>
              </a:lnSpc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:00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pening Remarks &amp; Welcome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lay Joh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:05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ines of Business Opportunities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aren Ev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ynn Scarlett, Beth Robinson, and Deidre 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:15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igh-level Timeline and Milestones,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John Sinde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nd LoB Deliver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:35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oB Logistics and Managemen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on Har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roduction - LOB Manag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:50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&amp;A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MB, G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:55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rap up and Closing Remarks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im Yo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:00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djo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B077-0930-4393-9AF0-5E04090046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37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es of Business Opportun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2187360"/>
            <a:ext cx="91440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9360" y="1728720"/>
            <a:ext cx="796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9280" y="1346040"/>
            <a:ext cx="8078760" cy="642600"/>
          </a:xfrm>
          <a:prstGeom prst="rect">
            <a:avLst/>
          </a:prstGeom>
          <a:solidFill>
            <a:srgbClr val="fff1c4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MB and the LoB Task Forces are focused on business-driven, comm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utions developed through architectural processe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1760" y="2811600"/>
            <a:ext cx="359892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following LoBs will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dertaken in FY 200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dget Formulation and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T Infrastructure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eospa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89240" y="2560680"/>
            <a:ext cx="4738680" cy="31413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Common Solution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: A business process and/or technology based shared service made available to government agenc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Business Driven (vs. Technology Driven)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: Solutions address distinct business improvements that directly impact LoB performance goals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Developed Through Architectural Processe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: Solutions are developed through a set of common and repeatable processes and too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E93A-FB13-49DB-A7C6-0911B2CE90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7448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-Level Time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73000"/>
            <a:ext cx="9144000" cy="55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838080" y="1843200"/>
            <a:ext cx="7467480" cy="4647600"/>
            <a:chOff x="838080" y="1843200"/>
            <a:chExt cx="7467480" cy="4647600"/>
          </a:xfrm>
        </p:grpSpPr>
        <p:sp>
          <p:nvSpPr>
            <p:cNvPr id="108" name=""/>
            <p:cNvSpPr/>
            <p:nvPr/>
          </p:nvSpPr>
          <p:spPr>
            <a:xfrm>
              <a:off x="838080" y="2067120"/>
              <a:ext cx="746748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07720" y="1843200"/>
              <a:ext cx="0" cy="4647600"/>
            </a:xfrm>
            <a:prstGeom prst="line">
              <a:avLst/>
            </a:prstGeom>
            <a:ln w="1260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07800" y="1843200"/>
              <a:ext cx="0" cy="4647600"/>
            </a:xfrm>
            <a:prstGeom prst="line">
              <a:avLst/>
            </a:prstGeom>
            <a:ln w="1260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08240" y="1843200"/>
              <a:ext cx="0" cy="4647600"/>
            </a:xfrm>
            <a:prstGeom prst="line">
              <a:avLst/>
            </a:prstGeom>
            <a:ln w="1260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08400" y="1843200"/>
              <a:ext cx="0" cy="4647600"/>
            </a:xfrm>
            <a:prstGeom prst="line">
              <a:avLst/>
            </a:prstGeom>
            <a:ln w="1260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08320" y="1843200"/>
              <a:ext cx="0" cy="4647600"/>
            </a:xfrm>
            <a:prstGeom prst="line">
              <a:avLst/>
            </a:prstGeom>
            <a:ln w="1260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08480" y="1843200"/>
              <a:ext cx="0" cy="4647600"/>
            </a:xfrm>
            <a:prstGeom prst="line">
              <a:avLst/>
            </a:prstGeom>
            <a:ln w="1260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08560" y="1843200"/>
              <a:ext cx="0" cy="4647600"/>
            </a:xfrm>
            <a:prstGeom prst="line">
              <a:avLst/>
            </a:prstGeom>
            <a:ln w="1260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18360" y="1843200"/>
              <a:ext cx="0" cy="4647600"/>
            </a:xfrm>
            <a:prstGeom prst="line">
              <a:avLst/>
            </a:prstGeom>
            <a:ln w="1260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92040" y="184320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r 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91040" y="184464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pr 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80680" y="184464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y 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05600" y="184464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un 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05320" y="1844640"/>
              <a:ext cx="60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ul 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55720" y="1844640"/>
              <a:ext cx="68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g 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79920" y="1844640"/>
              <a:ext cx="66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p 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914400" y="2076480"/>
            <a:ext cx="78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ick Off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/1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380988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posed Comm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utions &amp; Draf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/9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44197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aft Solutions &amp;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/2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3124080"/>
            <a:ext cx="73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FI Distribute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/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3962520"/>
            <a:ext cx="2057400" cy="3618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361800"/>
              <a:gd name="textAreaBottom" fmla="*/ 362160 h 3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20" y="0"/>
                </a:lnTo>
                <a:lnTo>
                  <a:pt x="21600" y="10800"/>
                </a:lnTo>
                <a:lnTo>
                  <a:pt x="206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 Common Solu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amp; Target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590920"/>
            <a:ext cx="1009800" cy="38088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99"/>
          </a:solidFill>
          <a:ln w="12600">
            <a:solidFill>
              <a:srgbClr val="bf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/ Plan L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60400" y="6197760"/>
            <a:ext cx="7331040" cy="293400"/>
          </a:xfrm>
          <a:custGeom>
            <a:avLst/>
            <a:gdLst>
              <a:gd name="textAreaLeft" fmla="*/ 0 w 7331040"/>
              <a:gd name="textAreaRight" fmla="*/ 7331400 w 733104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94" y="0"/>
                </a:lnTo>
                <a:lnTo>
                  <a:pt x="21600" y="10800"/>
                </a:lnTo>
                <a:lnTo>
                  <a:pt x="2109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 and Communicate LoB Progress/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36576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47242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3124080"/>
            <a:ext cx="1300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FI Responses Received &amp; Evalu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/5/06-5/15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37339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42670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251460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B Vision &amp; Plan Comple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/28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28195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4952880"/>
            <a:ext cx="4953240" cy="381240"/>
          </a:xfrm>
          <a:custGeom>
            <a:avLst/>
            <a:gdLst>
              <a:gd name="textAreaLeft" fmla="*/ 0 w 4953240"/>
              <a:gd name="textAreaRight" fmla="*/ 4953600 w 495324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8" y="0"/>
                </a:lnTo>
                <a:lnTo>
                  <a:pt x="21600" y="10800"/>
                </a:lnTo>
                <a:lnTo>
                  <a:pt x="199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9f7ff"/>
          </a:solidFill>
          <a:ln w="12600">
            <a:solidFill>
              <a:srgbClr val="9d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Busines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334120"/>
            <a:ext cx="1257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aft Joint Business Case due 6/9/06; Agency Comments due 6-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5334120"/>
            <a:ext cx="990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l Joint Business C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ly Aug. ‘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54864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4419720"/>
            <a:ext cx="0" cy="51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3276720"/>
            <a:ext cx="990360" cy="380880"/>
          </a:xfrm>
          <a:custGeom>
            <a:avLst/>
            <a:gdLst>
              <a:gd name="textAreaLeft" fmla="*/ 0 w 990360"/>
              <a:gd name="textAreaRight" fmla="*/ 990720 w 9903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cef9e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RF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371600" y="3060720"/>
            <a:ext cx="380520" cy="1066680"/>
            <a:chOff x="1371600" y="3060720"/>
            <a:chExt cx="380520" cy="1066680"/>
          </a:xfrm>
        </p:grpSpPr>
        <p:sp>
          <p:nvSpPr>
            <p:cNvPr id="146" name=""/>
            <p:cNvSpPr/>
            <p:nvPr/>
          </p:nvSpPr>
          <p:spPr>
            <a:xfrm>
              <a:off x="1371600" y="306072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71600" y="3060720"/>
              <a:ext cx="38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371600" y="414036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1A41-EB9F-4D3C-9F15-00AA1F2D31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cted LoB Outco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1720" y="1397160"/>
            <a:ext cx="801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4320" y="1430280"/>
            <a:ext cx="769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2760" y="1281240"/>
            <a:ext cx="8356320" cy="744480"/>
          </a:xfrm>
          <a:prstGeom prst="rect">
            <a:avLst/>
          </a:prstGeom>
          <a:solidFill>
            <a:srgbClr val="fff1c4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LoB Task Forces will identify common solutions, develop a target architecture, and develop a joint (interagency) business case by August 200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2800" y="2279520"/>
          <a:ext cx="8229600" cy="3811680"/>
        </p:xfrm>
        <a:graphic>
          <a:graphicData uri="http://schemas.openxmlformats.org/drawingml/2006/table">
            <a:tbl>
              <a:tblPr/>
              <a:tblGrid>
                <a:gridCol w="1411200"/>
                <a:gridCol w="6818400"/>
              </a:tblGrid>
              <a:tr h="381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eston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Deliverabl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/28/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B Vision, Goals, and Objectives and project Plan (FY06 draft spend plan, project pl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/6/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FI to Industry, Agencies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/18-19/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actitioner’s Day Mee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/8/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llection of Agency Data (4/10 – 5/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/5/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ue date for RFI Respon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/15/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FI Analysis and Summar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/26/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raft Common Solutions and Target Architec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/9/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oposed Common Solutions and Target Architec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/9/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raft Joint Business Case for LoB Common Solu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/12/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raft Joint Business Case to Agencies for Com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/19/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ue Date for Agency Comments on Draft Joint Business C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arly Aug 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inal Joint Business Case for LoB Common Solu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2A20-C13A-4929-88BE-90D1E4B1BF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, Goals, &amp;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600200"/>
          <a:ext cx="8229600" cy="4392720"/>
        </p:xfrm>
        <a:graphic>
          <a:graphicData uri="http://schemas.openxmlformats.org/drawingml/2006/table">
            <a:tbl>
              <a:tblPr/>
              <a:tblGrid>
                <a:gridCol w="1509840"/>
                <a:gridCol w="6719760"/>
              </a:tblGrid>
              <a:tr h="460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on, Goals, &amp; Ob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0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 statement that reflects what complete success looks lik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oals are the desired results or achievements that the effort is directed at, making the vision a realit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bjectives are the tactical targets that lead to meeting the goa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ach line of business must identify common solutions and develop a supporting target enterprise architecture that addresses the goals and objectives of the vis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33280" indent="-23328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naging partners develop a straw 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3280" indent="-23328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nduct Task Force working session to validate and ref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3280" indent="-23328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ubmit draft to OMB and review with O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3280" indent="-23328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vise and final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livery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raft due to OMB COB 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/28/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39D4-DAAD-4BD5-B680-C68EF7FACD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est for Information (RF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600200"/>
          <a:ext cx="8229600" cy="4270320"/>
        </p:xfrm>
        <a:graphic>
          <a:graphicData uri="http://schemas.openxmlformats.org/drawingml/2006/table">
            <a:tbl>
              <a:tblPr/>
              <a:tblGrid>
                <a:gridCol w="1509840"/>
                <a:gridCol w="6719760"/>
              </a:tblGrid>
              <a:tr h="569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for Information (RF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81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usiness performance requirements for the LoB will be submitted to industry vendors, non-profits and agencies for feedbac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he RFI will include overarching, strategic questions fundamental to all the LoB initiatives as well as LoB-specific questions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33280" indent="-23328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ovide RFI purpose, guidelines, and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3280" indent="-23328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asks Forces will develop the RFIs and review/analyze the respon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3280" indent="-23328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pendent on vision, goals, and object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livery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4/6/06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– submit to industry vendors, government and non-prof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5/5/06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– collect submitted respon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5/15/06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- analyze and summarize RFI responses in a 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E5EC-E206-4900-8260-50A1BADB8E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Solution &amp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Archite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600200"/>
          <a:ext cx="8229600" cy="3724200"/>
        </p:xfrm>
        <a:graphic>
          <a:graphicData uri="http://schemas.openxmlformats.org/drawingml/2006/table">
            <a:tbl>
              <a:tblPr/>
              <a:tblGrid>
                <a:gridCol w="1509840"/>
                <a:gridCol w="6719760"/>
              </a:tblGrid>
              <a:tr h="611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Solution &amp; Target Archite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 business process and/or technology based shared service made available to government agencies that achieves the vision, objectives, and performance metrics of the LoB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6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33280" indent="-23328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mploy responses from agency analysis and RF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3280" indent="-23328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velop target architecture that identifies the elements necessary to achieve LoB vision and object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3280" indent="-23328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pendent on definition of vision, goals, and objectives and RFI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livery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5/26/0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ubmit draft Common Solution and Target Archite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6/9/0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ubmit proposed Common Solution and Target Archite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A13-DE57-42CC-8648-D8B20C57EA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23:52:37Z</dcterms:created>
  <dc:creator>OMB User</dc:creator>
  <dc:description/>
  <dc:language>en-US</dc:language>
  <cp:lastModifiedBy>higgins_s</cp:lastModifiedBy>
  <dcterms:modified xsi:type="dcterms:W3CDTF">2006-03-16T21:34:59Z</dcterms:modified>
  <cp:revision>9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6650305</vt:r8>
  </property>
  <property fmtid="{D5CDD505-2E9C-101B-9397-08002B2CF9AE}" pid="3" name="_AuthorEmail">
    <vt:lpwstr>Andrew_P._Crossett@omb.eop.gov</vt:lpwstr>
  </property>
  <property fmtid="{D5CDD505-2E9C-101B-9397-08002B2CF9AE}" pid="4" name="_AuthorEmailDisplayName">
    <vt:lpwstr>Crossett, Andrew P.</vt:lpwstr>
  </property>
  <property fmtid="{D5CDD505-2E9C-101B-9397-08002B2CF9AE}" pid="5" name="_EmailSubject">
    <vt:lpwstr>egov.gov updates  3.16.05</vt:lpwstr>
  </property>
  <property fmtid="{D5CDD505-2E9C-101B-9397-08002B2CF9AE}" pid="6" name="_NewReviewCycle">
    <vt:lpwstr/>
  </property>
  <property fmtid="{D5CDD505-2E9C-101B-9397-08002B2CF9AE}" pid="7" name="_PreviousAdHocReviewCycleID">
    <vt:r8>506835762</vt:r8>
  </property>
</Properties>
</file>